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2C3-16EC-45C4-AFBF-B0ED190F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FE6-0D5A-47EE-B0F9-FF21BD4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ED7-28C2-43AE-B57E-4423E03E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0AE-4231-4F1F-8854-D35B355D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E14-0D62-4DC0-9528-F4696DB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692-AF6F-4304-AF5C-90B4F94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DA7-412B-411E-B99F-E3A2EDF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662-AB83-4EAC-AF8A-7A3FE9F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798-92CD-44C7-AC07-E05B027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7D4-0B88-4116-84AD-71CF6BF6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F53-9E7C-410D-8215-12AE71E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768-676A-4E2C-8A8D-2C4AA16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9f1"/>
            </a:gs>
            <a:gs pos="50000">
              <a:srgbClr val="e0f0e6"/>
            </a:gs>
            <a:gs pos="100000">
              <a:srgbClr val="f0c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148-E083-4C5B-B5C3-483487C2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4720" y="228600"/>
            <a:ext cx="61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synchronous Transfer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600200"/>
            <a:ext cx="7238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тература по данной лек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rnetworking Technology Handbook (Cisco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Г.Хелд. Технологии передачи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ttp://www.citforum.ru/nets/articles/atm_base.shtml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А. Микуцкий. Основы технологии АТ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ttp://www.citforum.ru/nets/articles/atm_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2_00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shtml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А. Микуцкий. Основные сетевые прилож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DDI Technology Guide (Cabletron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90440">
              <a:lnSpc>
                <a:spcPct val="125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.Олифер, В.Олифер. Транспортная подсистема неоднородных с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308640"/>
            <a:ext cx="121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"/>
              </a:rPr>
              <a:t>Rev. 1.01 / 06.02.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96160" y="228600"/>
            <a:ext cx="64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Качество обслуживания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QoS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600200"/>
          <a:ext cx="8382240" cy="300996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  <a:gridCol w="1447920"/>
                <a:gridCol w="144792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ба реального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ьз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ь передачи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обмена данны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ентирована на со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риентир. на со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адаптации А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L 3/4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L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L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14400" y="4921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ед включением станции в сеть необходимо настроить уровень адаптации АТМ в соответствие с выбранным классом обслуживания. Заголовки разных уровней адаптации отличаются друг от друг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98600" y="22860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TM Adapt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2193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A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йт заголовков (порядковые номера последовательно отправленных ячеек) + 47 байт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L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 для поддержки постоянной скорости передачи битов (приложения реал-тай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A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начение: обеспечить передачу данных с переменной скоростью в реальном времени (пустые ячейки не отсылаются, используется самосинхронизация). Полезная нагрузка - 45 байтов, 3 байта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 длина поля данных + порядковые номе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 информации с переменной скоростью как в ориентированной на соединение, так и не в ориентированной на соединение модели обмена данны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е - 44 байта (из 53). Кроме поле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L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ть еще тип информации и идентификатор мультиплексирования (для идентификации протоколов вышележащих уровней). Очень много накладных расх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39480" y="228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AL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193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AL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ивает максимальную эффективность передачи по сети АТМ потоков данных. Основное назначение: передача при помощи АТМ данных разных проток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езная информация (сегмент данных высокого уровня делится на ячейки по 48 байт) передается в каждой ячейке, кроме последней. В предпоследней в потоке передаются заголовки высоких уровней, а в последней - служебная информ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оловки последней ячей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C-32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на сегмента (0-65535), пометки основной части (для последней ячейки), поле заполнения потока до кратного 48 байт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конфигурирования уровня адаптации, в АТМ есть понятия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"политика трафи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"управление трафиком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и параметры обговариваются на этапе подключения станции к сети. "Политика трафика" устанавливает пиковую, среднюю пропускную способность, возможность кратковременного увеличения трафика от станции и др. "Управление трафиком" реализовано на основании аппаратно-программных очередей в сетевых ресур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10760" y="22860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5956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E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уляция локальной вычислительной се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М используется только для связи между ЛВС, она выступает в качестве транзитной сети, инкапсулируя кадры ЛВС (например, Ethernet) в потоки ячеек АТ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по преобразованию трафика ЛВС в трафик АТМ выполняют пограничные АТМ-LAN конверторы (коммутаторы). У них есть собственный АТМ адрес и информация о всех MAC адресах в ЛВС, кроме этого есть таблица соответствия MAC адресов объединенной сети адресам ATM-LAN коммутаторов, чтоб знать, какому коммутатору посылать пакет для эмуляции ЛВС). Особенность инкапсуляции: кадр не переупаковывается полностью, а разбивается по 48 бай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819520" y="990720"/>
          <a:ext cx="604836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990720"/>
                    <a:ext cx="60483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Cloud"/>
          <p:cNvSpPr/>
          <p:nvPr/>
        </p:nvSpPr>
        <p:spPr>
          <a:xfrm>
            <a:off x="685800" y="1447920"/>
            <a:ext cx="1752480" cy="134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209680"/>
            <a:ext cx="533520" cy="30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2362320"/>
            <a:ext cx="533160" cy="304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1828800"/>
            <a:ext cx="533520" cy="30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828440" y="198072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7080" y="25909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15238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ть А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7440" y="2057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14400" y="19807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0760" y="22860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соединений между устройствами ЛВС - не есть полная эмуляция. необходимо уметь распространять широковещательный трафик и выполнять еще некоторые специфические операции для ЛВС,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АТМ (!) нет широковещательных сообщений, сл. нужно каким-то образом поддерживать транзитные адресные таблицы коммутаторов. Это делается либо вручную на каждом коммутаторе, либо ставят спец. серв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 Emulation Server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нутри АТМ сети, который накапливает базу соответствия MAC адресов адресам коммутаторов после момента включения (каждый коммутатор обязан доложиться, поскольку при включении он знает только один АТМ адрес - адрес своего сервера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ARP запросы (для стека IP протоколов, разрешение MAC адреса по сетевому адресу) поступают на такой сервер. Если сервер у себя не находит ответа - посылает всем пограничным коммутатор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широковещательных сообщений ЛВС путем рассылки следующим образом. Ставят еще один сервер Broadcast and Unknown Server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Адрес этого АТМ сервера сообщается станциям сервером LES и если станции надо послать широковещательный пакет или пакет с неизвестным адресом, то посылают к н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0760" y="22860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редством таких сервер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о одному для каждой сети) есть возможность сделать на основе одной АТМ сети несколько совершенно независимых ЛВ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вят еще один сервер LAN Emulation Configuration Server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EC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т сервер хранит список имен эмулируемых сетей, а также значения их основных параметров - АТМ-адреса сервер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ждой сети, тип сети (например, Ethernet или Token Ring), максимальный размер кадра, поддерживаемого этой сетью и т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ишком большой трафик на выделенные сервера, необходимость зеркалирования и дублирования, сравнительно большие накладные расходы (более 5 байт из 5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5840" y="228600"/>
            <a:ext cx="66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Multiprotocol over ATM (MPO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еть АТМ поддерживает устройств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O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возможно сокращение общего трафика через выделенные сервера (маршрутизаторы) локальных сетей. Только несколько первых ячеек пойдут по верхнему пути, после чего алгорит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OA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ключат передачу трафика через два верхних (см. рисунок) маршрутизатора, запуская его сразу на оконеч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t842716" descr=""/>
          <p:cNvPicPr/>
          <p:nvPr/>
        </p:nvPicPr>
        <p:blipFill>
          <a:blip r:embed="rId1"/>
          <a:stretch/>
        </p:blipFill>
        <p:spPr>
          <a:xfrm>
            <a:off x="2166840" y="2808360"/>
            <a:ext cx="491976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21560" y="22860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Особенности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2193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Transfer Mode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 информации в асинхронном режиме, работа над стандартом начата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IT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88 году, первый стандарт опубликован в 1992 году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канальный уровни моде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I/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 информации различного типа (данные, звук, видео, пр.) маленькими порциями (в ячейках 53 бай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ells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 предустановленному виртуальному кан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а передачи: в основном, оптоволок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ередачи - зависит от физического уровня, обычно более 155Мбит/с (не определена стандарт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к сети АТМ рабочих станций, маршрутизаторов, устройств цифровой передач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М совмещает в себе черты коммутации каналов (гарантированная пропускная способность) с коммутацией пакетов (гибкое управление трафиком), более эффективное использование полосы пропускания, чем у систем синхронной связ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я малому размеру ячейки задержка в передаче данных минима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884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Структура сети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2193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ь состоит из коммутаторов АТМ и оконечных устройств, соединенных друг с другом. Назначение коммутатора: прочитать заголовочную часть ячейки, изменить маршрутную информацию, отправить ее на один из своих исходящих  портов. различают два вида интерфейсов АТМ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to network interfa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to network interfa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loud"/>
          <p:cNvSpPr/>
          <p:nvPr/>
        </p:nvSpPr>
        <p:spPr>
          <a:xfrm>
            <a:off x="2971800" y="3505320"/>
            <a:ext cx="2819520" cy="2171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114800"/>
            <a:ext cx="533160" cy="30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4191120"/>
            <a:ext cx="533160" cy="304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952880"/>
            <a:ext cx="533160" cy="30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4419720"/>
            <a:ext cx="304920" cy="533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19720" y="4495680"/>
            <a:ext cx="53316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267080"/>
            <a:ext cx="60984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19160" y="38862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90560" y="441972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1480" y="419076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105520"/>
            <a:ext cx="1447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76720" y="525780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657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486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8560" y="3886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3080" y="4114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960" y="5334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672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ть А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5560" y="4572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31160" y="4572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9120" y="228600"/>
            <a:ext cx="45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Кадры (ячейки) 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76520"/>
          <a:ext cx="8229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1066680"/>
                <a:gridCol w="1828800"/>
                <a:gridCol w="685800"/>
                <a:gridCol w="609840"/>
                <a:gridCol w="152388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(4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38080" y="3200400"/>
            <a:ext cx="7925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Flow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бита, часто не используются, содержит информацию в случае нескольких на одном АТМ интерфейсе, отсутствуют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 Path Identifi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1 (1.5) байт (4096 путей в пределах одного коммутатор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 Channel Identifier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(2 байта). Пара знач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спользуется коммутаторами для перенаправления яче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yload 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тип ячейки (3 бита управление/данные, перегрузки, пометка последней ячейки в кадр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L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ll Loss Prio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т разрешения уничтожения ячей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 Error Ch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ьная сумма заголовка (1 байт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ло ячейки не проверяется на корректность пере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520" y="12952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Кадр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229600" cy="36540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685800"/>
                <a:gridCol w="609840"/>
                <a:gridCol w="152388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(4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92520" y="20574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Кадр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3440" y="22860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Адресация и режим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2193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единение между двумя устройствами АТМ может быть по выделенному виртуальному каналу или по коммутируемому ВК. В основном для АТМ характерны соединения типа точка-точка (одно и двунаправленные), но бывают и один-ко-многим (однонаправленное), когда работу по размножению широковещательных ячеек берет на себя коммутато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момент установления соединений устройства АТМ пользуются единой системой адрес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AP (Network Service Access Point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тандарт Е.164, 20-байтные адреса). Всего существует 3 типа адресов АТМ, первый байт идентифицирует их тип. Следующие 13 байт адреса идентифицируют коммутатор, оставшиеся - устройства, к нему подключе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ддержки служб более высокого уровня моде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I/R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пример, сетевого-транспортного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етях АТМ предусмотрено функционирование протоколов согласования АТМ адресов с глобальными адресам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N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добн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жб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80960" y="2286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Действия коммутаторов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3808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447920"/>
            <a:ext cx="68580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447920"/>
            <a:ext cx="68580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447920"/>
            <a:ext cx="68580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1523880"/>
            <a:ext cx="3812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16765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6765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1676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1676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02904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этапе установления соединения все промежуточные АТМ устройства прописывают в свои таблицы коммутации правила перенаправления ячеек на основании конкретных знач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/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сылает запрос на передачу и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веча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проходная схе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аким образом образуется виртуальный канал внутри коммутаторов (устанавливается коммутируемый виртуальной канал на время передачи данных). Для узла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деляется свое значение VCI/VPI, а потом его постоянно изменяют коммутаторы, когда перенаправляют ячейки на какой-то свой порт, основываясь на ранее запомненных параметрах виртуального пу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1120" y="152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7576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61280" y="24526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ммут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20574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495680" y="205740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200" y="19810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/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106668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/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1120" y="10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/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02720" y="10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I/VC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39840" y="22860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Стек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8040" y="5410080"/>
            <a:ext cx="1114920" cy="398880"/>
          </a:xfrm>
          <a:prstGeom prst="rect">
            <a:avLst/>
          </a:prstGeom>
          <a:noFill/>
          <a:ln w="9360">
            <a:solidFill>
              <a:srgbClr val="a4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I/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075040"/>
            <a:ext cx="2286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455920"/>
            <a:ext cx="2286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836800"/>
            <a:ext cx="22860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218040"/>
            <a:ext cx="22860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598920"/>
            <a:ext cx="22860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979800"/>
            <a:ext cx="22860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61040"/>
            <a:ext cx="2286000" cy="380880"/>
          </a:xfrm>
          <a:prstGeom prst="rect">
            <a:avLst/>
          </a:prstGeom>
          <a:solidFill>
            <a:srgbClr val="962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44280" y="20811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КЛАД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83880" y="24638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22400" y="2844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АНС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6400" y="32418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НСПОРТ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7120" y="3622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ТЕ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2520" y="40035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НА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45720" y="43848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7560" y="2057400"/>
            <a:ext cx="3139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7560" y="3581280"/>
            <a:ext cx="3139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27560" y="4343400"/>
            <a:ext cx="3139920" cy="380880"/>
          </a:xfrm>
          <a:prstGeom prst="rect">
            <a:avLst/>
          </a:prstGeom>
          <a:solidFill>
            <a:srgbClr val="962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35720" y="35812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 Adaptati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946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уровен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0" y="432756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1960" y="5410080"/>
            <a:ext cx="7750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Т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160" y="242244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околы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ких уров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9625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86200" y="358092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343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6640" y="228600"/>
            <a:ext cx="57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Физический уровень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12193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ий уровень АТМ делится на два подуровня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sion Convergence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уровень подготовки к передач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D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ый от среды передач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Т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спознавание границ ячеек (отсутствует преамбула, ячейки всегда длиной 53 байта, если суммы нескольких подряд ячеек совпадают - значит, границы ячейки правильно установлены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счет и проверка контрольной суммы заголовк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генерация дополнительных символ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e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еобходимости более нижнему уровн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паковка потока бит в формат кадра несущей сети (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ET/SDH, DS-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155 Мбит/с с кодирование 8В/10В для экранированной витой пар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M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ивает синхронизацию относительно сигнал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ответствует физическому представлению сигнала (в том числе кодированию) для транспортной сети, используемой в качестве среды пере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fa7"/>
            </a:gs>
            <a:gs pos="50000">
              <a:srgbClr val="e5ffe5"/>
            </a:gs>
            <a:gs pos="100000">
              <a:srgbClr val="a7ff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610480" y="5334120"/>
            <a:ext cx="0" cy="1066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6248520"/>
            <a:ext cx="76212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34520" y="5867280"/>
            <a:ext cx="0" cy="609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686800" y="5562720"/>
            <a:ext cx="0" cy="838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160" y="6583320"/>
            <a:ext cx="43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trozavodsk State University, Alex Moscheviki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9600" y="658332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ETS and 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884160"/>
            <a:ext cx="7772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731880"/>
            <a:ext cx="38088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808200"/>
            <a:ext cx="381240" cy="380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10120" y="228600"/>
            <a:ext cx="55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Канальный уровень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2193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нальном уровне АТМ определен формат ячейки, а также он (уровень) ответственен за деление одного физического канала на несколько  виртуальных. На канальном уровне происходят процедуры перенаправления ячеек из порта в порт коммутат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е с уровнем адапт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ни подготавливают данные для упаковки в 48 байтовые ячейки. Уровен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аскирует от более высоких уровней особенности взаимодействия поверх АТМ, предоставляя лишь сервис определенного кач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ет 4 вида услуг, предоставляемых уровнем адаптации АТМ, которые полностью соответствуют градациям качества обслуживания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of Service, Qo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o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водится для разделения классов предоставляемого сетью сервиса (от полностью асинхронного типа трафика, характерного для ЛВС, до синхронного, воплощенного в сетя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9:33:33Z</dcterms:created>
  <dc:creator>Win98SE</dc:creator>
  <dc:description/>
  <dc:language>en-US</dc:language>
  <cp:lastModifiedBy>q</cp:lastModifiedBy>
  <dcterms:modified xsi:type="dcterms:W3CDTF">2005-02-06T18:19:06Z</dcterms:modified>
  <cp:revision>324</cp:revision>
  <dc:subject/>
  <dc:title>Презентация PowerPoint</dc:title>
</cp:coreProperties>
</file>